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55F-0161-41C4-8653-7F622DE8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B295-21BE-409A-81D5-AB806F54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09B4-C6C4-44A7-917A-D68A4B92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1C2E-24CF-4889-A702-ECF8E97C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1E31-0946-448E-9340-8ED7CBE7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BA23-1229-420C-81D2-E92388F8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66DC-3803-4FC4-9D71-6FDA2E9F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C350-7DDA-4EAF-907F-A0F87D30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3FE2-F561-4CD0-AF66-6A67C3C4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85D5-ABDA-4A03-BABF-CA05CECF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136A-A251-4EDB-BEBA-F7F541E1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49A3-0174-4F8B-AD14-93588E81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65FC-5670-40C2-A4C6-B67D0CCDF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’s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ean Zeng and Thomas Jaehn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he type of land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Most of Russia is a subarctic and tundra climate which makes the land bad for farm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The Ring of Fire in the Kamchatka Peninsula causes trouble for the people in parts of Russia because the volcanoes are still active in the Kamchatka Penins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The ice along the coast can cause shipping to be terr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Also some ports close from the ice along the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8380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River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Some main rivers are the Don river, the Volga river, and the Pechora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he rivers in Russia freeze which is not good for transpor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lso during the winter the Caspian sea freezes which can b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One more important thing is that since there is a lot of Global Warming the arctic effects a lot of  northern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Russian l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There are many lakes including Baikal Lake, Ladoga Lake, and the Pskovskoye L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A lot of the lakes in Russia are polluted and are di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One good thing the lakes provide is fi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nd form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e are land forms of all sort like peninsulas, bays, mountains, lakes, plateaus, and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e a lot of volcanoes in Russia but a main spot is on a peninsula called The Ring of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e are a lot of bodies of water but one main one is the Caspian S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nd form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e are land forms of all sort like peninsulas, bays, mountains, lakes, plateaus, and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e a lot of volcanoes in Russia but a main spot is on a peninsula called The Ring of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e are a lot of bodies of water but one main one is the Caspian S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43:43Z</dcterms:created>
  <dc:creator> </dc:creator>
  <dc:description/>
  <dc:language>en-US</dc:language>
  <cp:lastModifiedBy> </cp:lastModifiedBy>
  <dcterms:modified xsi:type="dcterms:W3CDTF">2010-12-20T18:35:40Z</dcterms:modified>
  <cp:revision>5</cp:revision>
  <dc:subject/>
  <dc:title>Russia’s Land</dc:title>
</cp:coreProperties>
</file>